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ng" ContentType="image/png"/>
  <Override PartName="/ppt/media/image3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50BF-2804-4B52-83DD-7E9B85AFD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hexagonal snow flake.it looks very cool,but it looks like st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8F6C-F875-40E2-A6E2-3C74B7FA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222-1F48-4B01-BB96-54030FA1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F13B-021F-4DC0-9586-FF8FC56E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740F-B024-4A84-B8EC-0F144CA7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3EF5-0015-4B71-BBCF-6820B484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4896-37D0-49B9-8633-8BB68F46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3852-3BF4-4EC0-AE9D-DEADDE89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CB83-839E-488E-80F1-58EAE4C8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9272-5072-4F48-84F4-F6B775EF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552B-1E9C-4635-B63E-7DCBEB66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8B07-1221-4679-A875-62FF053A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E360-C890-4823-9727-04C76E4B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D93A-252A-400B-8040-1020EECBD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mu.arsusda.gov/snowsite/default.html" TargetMode="Externa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5715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nowflake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on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USDA’s snowflake web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 half way down the page and look for images to drag onto your PowerPoint p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in the information about each snowfl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the “Insert” menu put in new sl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ew Show” from the Slide Show m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001000" y="380880"/>
            <a:ext cx="114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Stel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rys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ctorli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gonal snow  fla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49908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Ordinal hexagonal snow fla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702000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990720"/>
            <a:ext cx="6172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is Powerpoint was created by Zobeida from Class 4-401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343400" y="51055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ed by Zobe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18:05:03Z</dcterms:created>
  <dc:creator>NYCD DOE</dc:creator>
  <dc:description/>
  <dc:language>en-US</dc:language>
  <cp:lastModifiedBy>NYCD DOE</cp:lastModifiedBy>
  <dcterms:modified xsi:type="dcterms:W3CDTF">2007-03-19T10:19:47Z</dcterms:modified>
  <cp:revision>6</cp:revision>
  <dc:subject/>
  <dc:title>Hexagonal snow  flake</dc:title>
</cp:coreProperties>
</file>